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C60-E05A-4C8F-AE36-EFA38B86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770-BC46-422C-8D15-4CE5256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19-3C89-4673-9519-E18CF5A4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F6A-06FD-4795-98E8-699C5F48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DCC-BF78-4A8E-A513-EA488897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643A-2714-45D7-89CC-AEA5EBB8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089-A8D9-46BE-97D2-8F71B68C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113B-0733-4094-95C3-2F08C6A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3C1-378F-4F62-8097-7D0684A0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641-133F-4435-A97E-B240A81B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C87-84B0-4125-BC8B-371FF80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371-B0F1-4F60-986D-FE4ED93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13E3-F65A-4BFC-ABCB-0582C4A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701A-F8C5-4C39-A299-BA7DB0B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62FB-CA62-43F9-A4E3-A29C8914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CEA0-F2AB-4D1C-B9BD-51F41522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6D69-1091-4B6F-A308-2131F18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20C-5025-47F0-ACA2-E13FA47D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512-C60C-4245-B574-14FE4CA4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5C7-8A07-41E0-BAA8-C3ED8DBD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3CF-6D4E-4386-87C1-066F6FB0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CC-C6BE-4B5B-BDFF-6C47B31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339-FAF8-4CD4-91C2-0AB68D8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6D9-5D4D-4D06-93E6-E8B2F4C3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24D-53D0-4AE8-811A-8437DF0520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490-FFD6-4734-8E05-CA15CA201F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ECF9-F646-4B7B-89ED-7A8A7702D43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E0B-87D8-4458-A2A4-BFF27C4A46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ublic-republic.com/wp-content/uploads/2008/03/dete_10.jpg&amp;imgrefurl=http://www.public-republic.com/magazine/2008/03/1244.php&amp;usg=__paa5I-1FIsVsPxcP-DUsbw5Z_B4=&amp;h=500&amp;w=402&amp;sz=70&amp;hl=en&amp;start=24&amp;zoom=1&amp;itbs=1&amp;tbnid=cGMiuQGF1EeGGM:&amp;tbnh=130&amp;tbnw=105&amp;prev=/images%3Fq%3Ddete%26start%3D20%26hl%3Den%26sa%3DN%26gbv%3D2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ilirubin" TargetMode="External"/><Relationship Id="rId2" Type="http://schemas.openxmlformats.org/officeDocument/2006/relationships/hyperlink" Target="http://en.wikipedia.org/wiki/Serum_albumin" TargetMode="External"/><Relationship Id="rId3" Type="http://schemas.openxmlformats.org/officeDocument/2006/relationships/hyperlink" Target="http://en.wikipedia.org/wiki/Prothrombin_time#International_normalized_ratio" TargetMode="External"/><Relationship Id="rId4" Type="http://schemas.openxmlformats.org/officeDocument/2006/relationships/hyperlink" Target="http://en.wikipedia.org/wiki/Ascites" TargetMode="External"/><Relationship Id="rId5" Type="http://schemas.openxmlformats.org/officeDocument/2006/relationships/hyperlink" Target="http://en.wikipedia.org/wiki/Hepatic_encephalopathy" TargetMode="External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ltanoticiassalta.com/UserFiles/Image/bebaSorprendid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smesite.org/ngarkimet/fajllat/beba.jpg&amp;imgrefurl=http://www.gsmesite.org/index.php%3Fgj%3D2&amp;usg=__-XVx4LEF_cJw09LFViQr-r9SO3w=&amp;h=583&amp;w=583&amp;sz=46&amp;hl=en&amp;start=1&amp;zoom=1&amp;itbs=1&amp;tbnid=h1ABA-27xWmvgM:&amp;tbnh=134&amp;tbnw=134&amp;prev=/images%3Fq%3Dbeba%26hl%3Den%26sa%3DG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C3C-E18C-4B0F-A5D6-0459EEEFDF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Клиничка фармација 1</a:t>
            </a: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Предавање бр.3</a:t>
            </a:r>
            <a:br>
              <a:rPr sz="2100"/>
            </a:b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ФАРМАКОТЕРАПИЈА СПЕЦИФИЧНИХ ГРУПАЦИЈА ПОПУЛАЦИЈЕ</a:t>
            </a: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основни принци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026-E641-4EAB-A4CF-35134A6008D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3EC-F2A8-4EF0-9559-5DABEAF066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 неонаталном узрасту постоји могућност да одређене ендогене супстанце (билурубин), буду од стране неких лекова истиснути из везе са албуминима и да се потенцирају нежељени ефекти повишеног нивоа билирубина, са повећањем у нижој гестационој старости де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26A-D8B8-43E7-9F1B-77436AFCD80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12B9-B619-4B50-A99A-D208D96DB1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Период одојчета и малог детет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Овај период карактерише сазревање екскреторних механизама и органа који учествују у метаболизму леков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Интензитет сазревања добрим делом је одређен узрастом, из тог разлога, у овом периоду је потребно пажљиво адаптирање доза леков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Неки лекови у овом периоду развоја детета, имају већи клиренс, него код одраслих (нпр.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енобарбитал, фенитоин, карбамазепин, теофилин), због ефикасне микрозомалне оксидације у јетри, па се и због тога у овом узрасту, ови лекови дају у већим дозама него код одраслих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руги лекови имају успоренију елиминацију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одатно, њихову елиминацију могу да успоре тешка болест, која компромитује функцију елиминаторних орган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6225-48D7-4506-928D-5A328159886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E5C-2087-452B-A70C-5E71399A34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6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Деца предшколског, школског узраста и адолесцен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239480" indent="0"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Ова широка група испољава, у погледу примене лекова,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специфичност више у погледу прихватања терапије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него у погледу фармакокинетике и фармакодинамике, при чему се, у погледу мерљивих параметара, приближавају одраслим особа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 практичном погледу, индивидуализација доза примењује се код деце млађе од 12 годи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dete_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2767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A89-1BE7-49F3-8FEF-3F182E5542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49E1-27D4-4107-BBFB-9C275E6B6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зраст млађе деце захтева потребу прилагођавања и фармацеутског облика лека (потреба за сирупима, таблетама и капсулама у различитим дозама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Осим тога, облици сирупа, пожељно је да не садрже шећере, ради профилаксе каријеса, посебно у ситуацијама хроничне употребе леко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6EF-DDEF-47B3-911A-EB35FBDD06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750-01AF-445E-B05B-1B8E90D959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010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Када доза код деце није претходним фармаколошким испитивањима утврђена, онда се она израчунава на основу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познате дозе лека код одраслих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зраст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елесне тежин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елесне површин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или комбинацијом свих ових факто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AB91-D594-4364-ACAD-8F137BC8D2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823-5B1B-4780-B9B9-CACFC6D6A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565360"/>
            <a:ext cx="8001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 израчунавању доза код деце, треба знати и како извршити редукцију дозе, уколико постоји ограничење елиминације лека. Посебно је потребна пажња уколико се кори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те лекови са уском терапијском ширином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371-F17E-4A4A-874D-CA0BB4295B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F4B-C005-4A31-89D8-5337A1ADD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ва терапијска доза је стандардна, а приликом одлучивања за другу дозу, треба вршити корекциј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Корекција се може учинити на два начин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родужењем интервала примена лека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. Када су у питању антимикробни лекови, овај приступ није подесан због могућности да при крају интервала дође до пада нивоа ефикасне концентрације антибиотика и започињања новог развојног циклуса бактериј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. Други начин је: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редукција доз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на основу нивоа креатинина у крв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16A-4072-4963-B8A1-9617A7B8C26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2EE-F178-41D9-94DF-D5E35B7A22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бор лекова у отклањању фебрилности и терапија бол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Фебрилност није увек синоним болести, поготову не њене озбиљности (нпр. новорођенчад могу бити хипотермична у стањима сепсе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Фебрилност медикаментима </a:t>
            </a: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треба лечити само у ситуацијама када је изузетно висока, преко 39,5°Ц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и када је праћена симптомима дрхтавице, убрзаног дисања и пулса, малаксалошчу дете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Други разлог примене антипиретика може бити склоност детета да, при повишеној температури, испољи конвулзије, тзв."фрас"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492-2F6D-41A6-9585-6506EB57DFA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B95-FD62-44FD-BF2C-7D11381E52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64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арацетамо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је најшире употребљаван лек у отклањању фебрилности, а притом има и добар аналгетски ефек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во је данас уједно и најбезбеднији антипиретик, под условом адекватног дозирањ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Иницијална ударна доза је 15 мг/кг, а затим на 4-6 сати давати у дози од 10 мг/кг пер о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 случају прекорачења дозе од 10-20 пута, постоји опасност од оштећења јетр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5EF9-ADB4-4808-889A-4716E600FD1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C700-9448-43B0-A1C5-CF40728B48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Ибупрофе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је, такође, доста широко употребљаван антипиретик, са добрим антинфламаторним својстви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Појединачна доза је 7 мг/кг, а примењује се на 8 сати, не чешћ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Испољава ефикасност сличну ацетилсалицилној киселини, али са мање нежељених ефека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20B7-E05C-49C1-9CD0-6AD90B476C5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12B-4222-4CDF-8FC2-3F40C5D5C4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2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 ли смо сви исти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0" y="2546280"/>
            <a:ext cx="45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39720" y="3368520"/>
            <a:ext cx="853452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 ли нам је свима потребна иста доза лек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требно је прилагодити терапију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A7B-6732-4FA3-9792-E22074E0E3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B57-1789-499B-8F90-5937A4FC37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Ацетилсалицилна киселина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или аспирин је лек чију употебу у терапији повишене температуре, код деце, треба заборави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имена аспирина оправдана је код хроничних реуматских обољења уз строги надзор лекара реуматолог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Verdana"/>
              </a:rPr>
              <a:t>Нежељени ефекти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у инфекцијама изазваним вирусима инфлуенце или варичеле могу се испољити оштећењем јетре удруженим са енцефалопатијом, стање познато као 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Реy-ов синдро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 примењује се код деце малђе од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16 година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зузетак превенција тромбозе у кардиохиругији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200-D854-4682-A9B4-28865951BEB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E91-4522-431F-BFBE-D0BA466D6C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спирин може изазвати неугодне гастроинтестиналне последице, све до озбиљног крв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ења из дигестивног трак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Аспирин може индуковати "аспиринску астму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Аспирин утиче на коагулацију крви, па је његова примена опасна, посебно, уколико је неопходна хируршка интервен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Када је неопходан, аспирин треба применити у дози од 20-30 мг/кг/дневно подељено на 8 са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од контролом реуматолога у посебним индикацијама, доза може бити и знатно већ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5D71-F38D-4172-B912-8F889294AEF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0971-D922-4614-A99A-803E1AF77B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Није оправдана приме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пиразолонских деривата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у антипиретске и аналгетске сврхе, због опасности од изазивања агранулоцитоз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акав злоупотребљен лек је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метамизол 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(Аналгин, Новалгетол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терапији код деце треба избегавати и лекове који у свом саставу имају метамизо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BAAE-E75F-47BD-8C0E-BF3BDBF4E01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9FA-F96D-4E04-A1D3-F1B42E855B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the healthcare, procurement and pharmaceutical communities with information on dosage and treatment guidelines through the development of the WHO Model Formulary for Children containing independent prescriber information on over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240 medici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ased on the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WHO Model List of Essential Medicines for Childre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first developed in 2007 and reviewed and updated every two yea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th WHO Model List of Essential Medicines (March 2017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th WHO Model List of Essential Medicines for Children 201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Поред нових лекова на листи уведена је и нова категоризација антимикробних ле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ACCESS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1. и 2. избор антибиотика за емпиријско лечење најчешћих инфекција ;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WATCH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антибиотици са високим потенцијалом за развој резистенције употребу  1.и 2. избора ограничити на мали број синдрома или пацијената 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RESERVE 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антибиотици који се користе као последња линија терапијске опције  -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‘last resort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421-B400-4CEC-8E7F-3FD836CB15D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4DB-8DBB-40C4-950E-1CFF8FFB2F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" y="981000"/>
            <a:ext cx="88916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th WHO Model List of Essential Medicines (Mar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able 1.1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dicines with age or weight restric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640" y="2060640"/>
            <a:ext cx="3924360" cy="4681440"/>
          </a:xfrm>
          <a:prstGeom prst="rect">
            <a:avLst/>
          </a:prstGeom>
          <a:solidFill>
            <a:srgbClr val="f2f2f2"/>
          </a:solidFill>
          <a:ln w="9360">
            <a:solidFill>
              <a:srgbClr val="a3b2c1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rtesunate + pyronaridine tetraphosphate &gt; 5 k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tazanavir &gt;25 k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tropine &gt;3 month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benzyl benzoate &gt;2 yea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betamethasone topical preparations hydrocortisone preferred in neonates cefazolin &gt;1 mont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ceftriaxon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&gt;41 weeks corrected gestational ag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darunavir &gt; 3 yea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delamanid &gt; 6 years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4720" y="1988640"/>
            <a:ext cx="4751280" cy="4753080"/>
          </a:xfrm>
          <a:prstGeom prst="rect">
            <a:avLst/>
          </a:prstGeom>
          <a:solidFill>
            <a:srgbClr val="f2f2f2"/>
          </a:solidFill>
          <a:ln w="9360">
            <a:solidFill>
              <a:srgbClr val="a3b2c1"/>
            </a:solidFill>
            <a:miter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ihydroartemisinin + piperaquine phosphate &gt; 5 k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iloxanide &gt;25 k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oxycycline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8 years (except for serious infections e.g. choler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efavirenz &gt;3 years or &gt;10 k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fluoxetine &gt;8 year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ibuprofen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 &gt;3 months (except IV form for patent ductus arteriosu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mefloquine &gt;5 kg or &gt;3 months metoclopramide Not in neon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nevirapine &gt; 6 weeks ondansetron &gt;1 mon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silver sulfadiazine &gt;2 months tetracaine Not in preterm neonates trimethoprim &gt;6 months xylometazoline &gt;3 month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165-0D23-4331-9621-A19461A6D0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B25-094A-4299-B5A9-075E791E9F8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C53-EEF2-4655-8CE2-A1FC252FA0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ПИСИВАЊЕ ЛЕКОВА У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АРИЈЕМ ЖИВОТНОМ ДОБУ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цене : до 2050, 80 милиона Американаца ће имати преко 65 година (23% популације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роше 34% укупно прописаних рецеп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блеми везани за  употребу лекова  раст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жељене реакциј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лифа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коришћење лек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правилна употреб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FB56-E659-4E1C-9993-6A032DEC0F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67D-1076-428B-8112-1A9AEC1462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ПИСИВАЊЕ ЛЕКОВА У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АРИЈЕМ ЖИВОТНОМ ДОБУ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рењем организма, поступно настају промене које утичу на функцију појединих орган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зиолошка - базна функција различитих органа (бубрега, јетре, плућа) тако постаје смањена и у уравнотеженим условима, док при утицају и најмањих нокси, или акутних болести, може доћи до стања манифестне инсуфицијенције ових орга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AAEF-0125-4085-BCA5-9759170A2B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295C-490E-43D3-9E25-FFE07537B8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ПИСИВАЊЕ ЛЕКОВА У СТАРИЈЕМ ЖИВОТНОМ ДОБ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2707920"/>
            <a:ext cx="838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Људи у старости често су осетљивији на велики број лекова, или тако што су фармакодинамска дејства многих лекова изражена при знатно нижим дозама, или из разлога што су нежељене реакције лекова у старости чешћ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ред тога, у старијих људи су честе различите болести, што подразумева и примену већег броја лекова који имају повећан риз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итерапиј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твара могућност појаве интеракције лекова, што додатно може да компликује примену лекова код старијих љу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093D-F64F-4EFE-88E6-0D76167132F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1605-C1DF-49B0-9AB9-B73865640F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д прописивања лекова старијим људима, потребно ј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четне дозе лекова смањити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тити пажњу на потенцијално нефро-, хепато- и хематотоксичне леков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зно примењивати лекове који делују на ЦНС, као што с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едатив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тидепрес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иоидни аналгетиц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E88-3E14-40A1-8507-CC0971399EE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98C5-96EC-45CD-B0A1-8717F9FCDF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010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РОПИСИВАЊЕ ЛЕКОВА У ДЕЧЈЕМ УЗРАСТУ</a:t>
            </a:r>
            <a:br>
              <a:rPr sz="2000"/>
            </a:b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Шта их чини посебним ???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ЗО </a:t>
            </a:r>
            <a:r>
              <a:rPr b="1" lang="sr-CS" sz="1800" spc="-1" strike="noStrike">
                <a:solidFill>
                  <a:srgbClr val="c00000"/>
                </a:solidFill>
                <a:latin typeface="Calibri"/>
                <a:ea typeface="Calibri"/>
              </a:rPr>
              <a:t>(</a:t>
            </a:r>
            <a:r>
              <a:rPr b="1" lang="sr-Latn-RS" sz="1800" spc="-1" strike="noStrike">
                <a:solidFill>
                  <a:srgbClr val="c00000"/>
                </a:solidFill>
                <a:latin typeface="Calibri"/>
                <a:ea typeface="Calibri"/>
              </a:rPr>
              <a:t>WHO -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Calibri"/>
              </a:rPr>
              <a:t>Fact sheet , Updated September 2016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коро </a:t>
            </a:r>
            <a:r>
              <a:rPr b="1" lang="sr-Latn-RS" sz="2000" spc="-1" strike="noStrike">
                <a:solidFill>
                  <a:srgbClr val="000000"/>
                </a:solidFill>
                <a:latin typeface="Verdana"/>
              </a:rPr>
              <a:t>5,9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илиона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деце, узраста испод 5 година умире сваке године, в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ше од половине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бог болести које могу да буду третиране безбедним ефикасним лековима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одећи узроци смрти у дечјем узрасту су поред компликација при рођенју пнеумонија, дијареја и маларија, 45% смртних случајева је повезано са малнутрициј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пољавају различит одго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 на дејство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ло лекова постоји у формулацијама које су развијене посебно за де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Широм света за децу се користе </a:t>
            </a:r>
            <a:r>
              <a:rPr b="0" lang="sr-CS" sz="2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ff-label</a:t>
            </a:r>
            <a:r>
              <a:rPr b="0" lang="sr-CS" sz="20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лекови (нису испитивани на деци , нису регистровани за примену код дец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МА, ФДА иницијатива да се побољша доступност,безбедност и ефикасност лекова за де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1E2-25D3-4970-B3E7-244FAB9F90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160B-BD61-4911-9F27-C2DF3D0034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АРМАКОКИНЕТСКЕ СПЕЦИФИЧНОСТИ КОД СТАРИЈИХ ЉУДИ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псорпц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лекова у старости, најчешће, није значајно измењ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ећан Г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може да смањи апсорпцију лекова за чију апсорпцију је потребна кисела средина (нпр. Калцијум карбонат, итраконазол, кетоконазол..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спорен мотилитет и пражњење желудца може да повећа ризик од улцерација (нпр. Аспирин, НСАИЛ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мене апсорпције трансдермалних, ИМ, субкутане примене зависи од мишићне масе која се смањује и присуства масног тки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6E2E-6734-46C3-B350-88A3B1ACC1D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3554-C73E-4980-AD38-B43ADA77B8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АРМАКОКИНЕТСКЕ СПЕЦИФИЧНОСТИ КОД СТАРИЈИХ ЉУДИ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истрибуција: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рењем, садржај воде у организму опад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ује се мишићна маса 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 проценат ма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акутним болестима лако долази до пада албумина у серуму, што може да има за последицу повећање слободне фракције лекова у плазми и појачан ефекат лекова, нпр фенитои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73DC-2989-443F-AC98-5578D2DA4C6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0ACE-537F-4859-A647-25D181C225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рмакокинетичке промене код стариј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 јетр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због смањења функције јетре, може бити успорен метаболизам лекова у јетр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ивидуалне особености у погледу метаболичког потенцијала јетре се разликују од особе до особе, а најизраженији је ефекат на концентрацију оних лекова који подлежу метаболизму првог проласка кроз јетру (пропранолол, верапамил), па почетне дозе оваквих лекова у старијих треба редуковати за 30%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DA3-91EC-467E-A1BF-8BEBC279C43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5EF-61D3-4A49-A0C2-CA75D31383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2060280"/>
            <a:ext cx="8610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једини лекови се у јетри метаболишу у фармаколошки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активне метаболит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уколико је елиминација ових метаболита преко бубрега успорена, може доћи до акумулације оваквих лекова (бензодиазепини, антидепресиви, антипсихотици, опиоидни аналгетици) и појаве токсичних ефека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FE66-2610-466B-8989-F595EFE94B6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0D9-3571-43CA-BD34-EA6D920583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Елиминац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ко бубрег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Старењем, у бубрезима се одвијају промене које доводе до смањења бубрежног паренхима, редукције гломерулске и тубулске функције, као и до смањења циркулације крви у бубрези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ни значај ових промена у функцији бубрега, зависи од тога у којој мери бубрези учествују у елиминацији леков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3961-4772-412E-9AF3-20D5448DBFE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F97-A984-46B3-8E9A-35BE394C52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610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о је код старијих људи, токсичност лекова који се искључиво излучују преко бубрег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дигоксин, аминогликозиди, каптоприл, прокаинамид) значајно повећан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5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хидратација болесника или прекомерне дозе диуретика, такође, могу да доведу до смањења елиминације свих лекова који се излучују преко бубрег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734-62FD-4555-A7DF-9DD3DED5E65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1DF-2CB8-486D-ABB8-1EC5168EA8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ЕКОВИ И ТРУДНОЋ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отреба лекова у трудноћи може бити ризич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потенцијалних штетних ефеката на фетус који се развија ин утеро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штетног утицаја на циркулацију крви у плацент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утицаја на повећану контрактилност утеруса и измењеног физиолошког стања мајк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F93-6191-4FDB-908B-952772B48C1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F14E-BD76-42B1-8597-B85488C0BB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вако давање лека трудници може утицати на плод, директно или индиректно. Лекови као и фактори средине могу имати за последицу абнормалан развој плода тј. тератогени ефека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ратогеност може проузроковати конгениталне аномалије (веће или мање малформације или функционалне абнормалност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ко 25% поремећаја интраутериног развоја може бити последица генетске предиспозиције, а сматра се да су 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% случајева последица употребе лекова у току трудноћ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B6D-9EC5-40A5-86AB-5673DD50F73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7595-E3EB-4A4E-89C5-12365291FC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ичина лека која долази до фетуса ин утеро, зависи од многих фактора, који могу варирати од труднице до труднице и који углавном зависе од гестацијског пери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цента не штити плод од ефеката свих лекова. Лекови, чија је молекулска  тежина мања од 400 Далтона, пролазе много брже ову баријеру, од високо нејонизованих и липофилних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 је молекулска тежина већине лекова између 250 и 400 Далтона, постоји могућност њихове пенетрације кроз плаценту и продирања у феталну циркулациј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9BF-5929-46A3-93C9-8C1A06AEB1D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F4A8-A5F0-4FEA-8E48-4BCBE79F11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 пролазак лекова кроз плаценту такође утичу следећи фактор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епен везивања за протеине плазм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ток крви кроз мајчин организам и фету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ва површина плаценте преко које се врши размена крви 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боличке активности плацен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928-136A-4E86-AB73-4D5597DB105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C332-E2E9-4FF2-80B5-A984B829CE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ПРОПИСИВАЊЕ ЛЕКОВА У  ДЕЧЈЕМ УЗРАСТУ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0010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Елементи које мора узети у обзир лекар који се одлучи за примену лекова код дец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Лекар треба да тежи да користи, кад год је могуће, лекове који су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испитани и лиценцирани за примену код дец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. Уколико то није могуће, сме се применити, са посебним опрезом, нелиценциран лек, под контро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Лекар мора да изврши адекватан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избор лека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, у погледу фармакодинамске и фармакокинетске прилагођености одговарајућем узрас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Треба да изабере оптимални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ут апликациј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лека код дец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029E-9797-4AFC-ACE9-121EEEAF43B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47B-05C0-4787-B0B5-483A067565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већи број лекова пролази кроз плаценту простом дифузиј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обзиром да проста дифузија зависи од степена концентрације, серумска концентрација лека у фетусу обично је једнака мајчино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им у којем лекови пролазе кроз плаценту варира и многи лекови достижу концентрацију у фетусу од 50%, па чак и преко 100% концентрације лека у крви мајк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EC19-325C-4BFC-B60B-3259DE3E83F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920-1C41-4873-A9C6-930EAC7A0B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лучивање лекова од стране фетуса превасходно се обавља преко феталне јетре и плацен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д фетуса клиренс може бити спорији него код одраслих здравих особ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7DC-70EE-4888-A5ED-B825B1603C6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AF3-1B52-416B-AC0D-C751B7DF3C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ришћење лекова у одмаклој трудноћи може имати утицаја на порођај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пр. узимање салицилата може изазвати повећано крварење на порођају, или чак одлагање почетка порођаја, због снижене концентрације простагландина и превременог затварања дуктуса артериозу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0B6E-CE42-48F5-B163-B11071D1D9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A8A-5D52-43BF-A50C-B89EC5343A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 би се избегли нежељени тератогени и/или ембриотоксични ефекти, неопходно је да сви лекови, који носе било какав ризик по плод, а користе се у трудноћи, садрж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информације са таквим упозорење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342B-730D-4E93-A0E1-F73AD077432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C027-EF9D-42DA-A288-40ACA871D1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Д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генција за храну и лекове САД сврстава лекове у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ет категор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оје указују на потенцијал системски ресорбованих лекова да проузрокују дефект новорођенче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ључна диференцијација према категоријама заснована је на степену поузданости документације и односу користи и ризика од примене једног лека у трудноћ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71E-ED62-471B-A0AB-04A752BF91F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E268-39DC-47FF-AF0E-B0836B1E74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Категорије лекова по дефиницији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Америчке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Савезне управа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за храну и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лекове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ФДА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рупа 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- лекови за које је у контролисаним клиничким студијама показано да је њихова примена током целе трудноће безбед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Група Б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- лекови који на животињама нису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оказали штетно дејство на плод, али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ема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онтролисаних студија на људима, ил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лекови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оји на животињама показују штетно дејство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а плод, али контролисане клиничке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тудије на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трудницама нису показале ризик по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ло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8BD8-1DD8-4A7A-A596-384723EC9A5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0D6-8E22-4FF2-8D7E-2AB84AC7CC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Група Ц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- студије на животињама су показале да лек 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има штетно дејство на плод, а нема контролисаних 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студија на људима,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а студија ни н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животињама ни на људим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рупа Д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постоје докази за ризик по фетус човека, али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е лек у случају да је ризик од ускраћивања терапиј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још већи, може примени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рупа 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студије на животињама или људима су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казале појаву конгениталних аномалија или ј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актично примена лека показала штетно дејство н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од, у трудноћи тако да ризик јасно превазилази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рист од примене тог лека. Лекови из ове групе су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псолутно контраиндиковани за примен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атегорије лекова по дефиницији Америчке Савезне управа за храну и лекове (ФДА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A258-AB45-4E88-B844-01E75B154FB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73F-BCBB-49E1-9B3E-230956E96B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знато је да у првом триместру (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триместар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), лекови могу изазвати урођене малформације (тератогенеза), а ризик је, вероватно, највећи између треће и једанаесте недеље трудноћ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им тога, лекови примењени у току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2. и 3. триместр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огу довести до поремећаја раста и развоја органа фетуса, а уколико се примене непосредно пред порођај или у току порођаја, постоји опасност непредвиђених догађаја самог порођаја као и исхода по новорођенч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A000-13F8-4FA9-BA87-1C15037D02D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3C7-95CA-43EC-9FD9-3D4FBB24FC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ком првог триместра требало би избегавати примену било којег ле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бору лека требало би се одлучити за лекове који су до сада често прописивани у трудноћи и за које се показало да су углавном нешкодљив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квим лековима требало би дати предност над новим, неиспитани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к би требало применити најмању делотворну доз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DE5-6415-4BFD-AED1-990ADCCEEE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A53-7029-4048-A809-47291120F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ЛЕКОВИ И ДОЈЕЊ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а неких лекова (нпр. ерготамина) код дојиља може изазвати низ нежељених реакција код дојенчета док примена других (нпр. дигоксин) има мали ефекат на дете, тако да је врло важно имати у виду ту чињеницу и предузети све потребне мере да дојиља, у случају потребе, примењује само ефикасне, квалитетне и по новорођенче сигурне леков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2684-A917-47BA-BE73-EC64A01E7B5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F488-C489-4F25-AB98-139354ADCC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560" y="765000"/>
            <a:ext cx="8785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Отежавајуће околности апликације лека у одређеним узрастима су следеће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2421000"/>
            <a:ext cx="871380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У узрасту превремено рођеног и новорођеног детета, не постоји стабилност ресорпције лека примењеног оралним пут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Интрамускуларна примена је ограничена малом мишићном ма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Интравенски пут захтева велику мануелну вештину оног ко примењује л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Лекар мора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а познаје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стање функције органа који су укључени у промет л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535A-BBE6-4195-B87B-FF5026B024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E18-9931-41C5-80E6-EE075071F0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знато је да неки лекови и њихова знатнија концентрација у млеку могу довести до токсичних ефеката код дојенче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лед свог фармаколошког ефекта одређени лекови могу инхибирати рефлекс сисања код дојенчета (нпр. фенобарбитал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339-5E17-4F55-AF4B-D9DDBE5D01C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116-1DBE-4436-8FA2-A86DE61416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 већину лекова  нема још довољно података који би омогућили јасну процену о сигурности примене лека код мајке која доји,  па је битно имати у виду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3213000"/>
            <a:ext cx="800100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исивање и примену лекова код дојиље треба ограничити само на ургентне ситу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о постоји потреба за терапијом леком за који се сматра да није безбедан, треба саветовати избегавање дојењ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 престанку коришћења лека, дојење наставити тек после потпуне сигурности да нема неповољних ефеката по новорођенч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762120" y="152388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FE46-E37F-438B-ABFF-5F0340204E9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FF2-53B2-49C0-B63E-F874CCA3EE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ЕКОВИ И БОЛЕСТИ ЈЕТ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и који се могу појавити применом лекова код болесника са обољењима јетре зависе 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роде и степена оштећења јетр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рмаколоших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рмакокинетских особина појединих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CB6-854E-4F85-A01D-C7AD70C2C0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E2F-DC68-46E8-BEA1-E421BC2980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д обољења јетре не постоји једноставан тест којим би се могла проценити њена функција и на основу те процене извршити прилагођавање доза појединих лекова који се примењују истовремено, нарочито оних који се у највећем проценту метаболишу путем јет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центрација албумина у серуму и протромбинско време омогућавају добру процену метаболичке функције јетре док вредности АСТ, АЛТ и алкалне фосфатазе најчешће не дају поуздане податке о стању функције јетре него могу указати на степен остећења хепатоци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0CF5-8D28-41B3-BB40-F5D5452908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9CF-5D8F-48A7-9659-93B71258CE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0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ild-Pugh scor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66640" y="990720"/>
          <a:ext cx="8001000" cy="3870360"/>
        </p:xfrm>
        <a:graphic>
          <a:graphicData uri="http://schemas.openxmlformats.org/drawingml/2006/table">
            <a:tbl>
              <a:tblPr/>
              <a:tblGrid>
                <a:gridCol w="1947960"/>
                <a:gridCol w="1055520"/>
                <a:gridCol w="3032280"/>
                <a:gridCol w="196524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Total bilirub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μmol/l (mg/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34 (&lt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50 (2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50 (&gt;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336699"/>
                          </a:solidFill>
                          <a:uFillTx/>
                          <a:latin typeface="Verdana"/>
                          <a:ea typeface="Times New Roman"/>
                          <a:hlinkClick r:id="rId2"/>
                        </a:rPr>
                        <a:t>Serum album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PT I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1-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Asci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epatic encephalo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I-II (or suppressed with medi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III-IV (or refrac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0"/>
          <p:cNvSpPr/>
          <p:nvPr/>
        </p:nvSpPr>
        <p:spPr>
          <a:xfrm>
            <a:off x="604440" y="4799880"/>
            <a:ext cx="769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ronic liver disease is classified into Child-Pugh class A to C, employing the added score from abo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905120" y="5181480"/>
          <a:ext cx="4572000" cy="1540080"/>
        </p:xfrm>
        <a:graphic>
          <a:graphicData uri="http://schemas.openxmlformats.org/drawingml/2006/table">
            <a:tbl>
              <a:tblPr/>
              <a:tblGrid>
                <a:gridCol w="685800"/>
                <a:gridCol w="533160"/>
                <a:gridCol w="1600200"/>
                <a:gridCol w="1752840"/>
              </a:tblGrid>
              <a:tr h="621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year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year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2060"/>
                </a:solidFill>
                <a:latin typeface="Verdana"/>
              </a:rPr>
              <a:t>MELD sc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Verdana"/>
              </a:rPr>
              <a:t>Користи се за процену стадијума цирозе у односу на вредности креатинина, билирубина и ИНР-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Verdana"/>
              </a:rPr>
              <a:t>MELD scor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=0,95 x 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kreatinin mg/dL)+0,378 x 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bilirubin mg/dL)+1,120x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INR)+O,6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42A-D855-47DA-A4E4-113948047F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811-9969-4F4A-83FB-04AFEE69CE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7C3-7172-47B8-A642-7A17CA19054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BEF-192D-4E62-9C37-36188F95B0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 процесу прилагођавања доза лекова, које истовремено треба прописати болесницима са обољењима јетре, треба узети у обзир клиничку процену оштећења, као и фармакотерапијски профил лека кога треба применити, како би се извршила процена о неопходности примене лека упркос постојању обољења јетр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FA3-2B0B-4A6F-8355-EE4E84B2F7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59D6-B0B6-4A0D-8E46-94C60E9EBD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3141360"/>
            <a:ext cx="800100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оштећење функције хепатоцита доводи до смањења метаболичке способности јетр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рифампицин и фусидинска киселина излучују се преко жучи непромењени и може доћи до њихове кумулације у болесника са интра и екстрахепатичном жутицо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мањено излучивање жучи услед опструкције или поремећаја транспортних механиз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27C7-5CA8-41C0-9F21-60FB9C5F362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ADB-3E33-44AF-AE95-30974CC322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170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6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цироза јетре и портална хипертензија као и хируршки захвати могу довести до смањења протока крви кроз јет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след смањене синтезе албумина у јетри, односно хипопротромбинемије, смањено је везивање лекова за протеине плазме што може довести до токсичности оних лекова са високим процентом везивања за протеине плазме (фенитоин, преднизол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7C1-CD11-41E3-BBAF-03C4497566F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5743-AD63-4E59-84DA-C8826BB8F8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001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just">
              <a:lnSpc>
                <a:spcPct val="80000"/>
              </a:lnSpc>
              <a:spcBef>
                <a:spcPts val="40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ремећај механизма првог пролаза лека кроз јетру и последица тога  повећање биорасположив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мањена синтеза фактора коагулације која може за последицу имати продужење протромбинског времена и повећање осетљивости на оралне антикоагулансе (варфарин, фениндио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 болестима јетре неки лекови могу довести до оштећења церебралне функције и могу потенцирати церебралну енцефалопатију (сви седативи, опиоидни аналгетици, диуретици који доводе до хипокалијемије, лекови који доводе до констипације и д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F7E3-CCC6-4EC4-9927-57B4620C833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9F4-D11C-4015-A003-6175F3B9A9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964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Посебности дечјег узраста код примене лек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Деца се од одраслих разликују у погледу одговора на лекове, захваљујући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различитом степену зрелости рецепторских механизама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. Ако лек делује преко рецептора и различите сензитивности циљног ткива имају утицај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Код деце постоје, привидно, веома велике разлике дозирања лекова у поређењу са одраслима, због тога што деца имају физиолошки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већу количину ванћелијске течности, па лекови, који се дистрибуирају кроз ове средине, имају већи волумен дистрибуције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Уколико су лекови липосолубилни и који се редистрибуирају у масно ткиво (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изепам нпр.), тада постоји опасност од интоксикације у случајевима хипотрофичне дец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Деца, посебно недоношћад и новорођенчад, имају ограничене детоксификационе и елиминационе механизме (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функција јетре и бубрега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 и релативну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ензимску дефицијенцију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18E0-28B7-4ECE-8A90-6AE2BF0F18B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841-FA95-4A2A-A85D-FE95713094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2707920"/>
            <a:ext cx="8001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од болесника са болесном јетром, хепатотоксичност може бити зависна од дозе или непредвидива (идиосинкратска), односно, посредована различитим механизмима преосетљ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ксичност, зависна од дозе, испољава се већ код нижих доза лека, него што је то случај код болесника са нормалном функцијом јетре, а исто тако, лекови који изазивају идиосинкратску хепатотоксичност, то могу испољавати знатно чешће код болесника са оштећеном јет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F978-46D4-4FCA-8E5A-5E387ECC2FF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443-76E3-4529-88DE-E3FC0A0703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Пошто се албумини стварају у јетри, њихова концентрација у крви ће бити снижена код обољења јетр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Зато треба </a:t>
            </a:r>
            <a:r>
              <a:rPr b="0" lang="sr-CS" sz="1700" spc="-1" strike="noStrike" u="sng">
                <a:solidFill>
                  <a:srgbClr val="000000"/>
                </a:solidFill>
                <a:uFillTx/>
                <a:latin typeface="Verdana"/>
              </a:rPr>
              <a:t>смањити дозу лекова који се у високом проценту везују за протеине плазм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нпр. антидепресиви, нестероидни антиинфламаторни лекови, и др.), јер ће им у противном слободна фракција бити неуобичајено велика. Пошто је само слободна фракција лека активна, то значи да ће и ефекат таквих лекова бити много већи, уколико им се доза не смањ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Треба избегавати лекове који смањују коагулабилност крви, јер је синтеза фактора коагулације ионако смањена код обољења јетр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Такође не треба давати лекове који могу неким другим начином изазвати крвављење: нестероидне антиинфламаторне лекове, антиагрегационе лекове, селективне блокаторе преузимања серотонина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Избегавати примену лекова интрамускуларним путем, јер може доћи до настанка хематом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FDF-51B6-4AB2-9E62-575A2A6438C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99B-2E81-4D1F-B3B3-BCDF19A17E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Избегавати лекове са дејством на централни нервни систем (посебно седативе), јер они могу провоцирати ојаву хепатичке енцефалопатиј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Не давати лекове који доводе до ретенције течности (вазодилататори, нестероидни антиинфламаторни лекови, кортикостероиди), јер могу погоршати асцитес и едем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Ако је потребно ублажити болове код болесника са инсуфицијенцијом јетре, не треба давати нестероидне антиинфламаторне лекове (јер изазивају гастроинтестинално крвављење), нити опиоиде (јер се може изазвати енцефалопатија). Лек избора је у тој ситуацији </a:t>
            </a:r>
            <a:r>
              <a:rPr b="1" i="1" lang="sr-CS" sz="1900" spc="-1" strike="noStrike">
                <a:solidFill>
                  <a:srgbClr val="000000"/>
                </a:solidFill>
                <a:latin typeface="Verdana"/>
              </a:rPr>
              <a:t>парацетамол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DE5A-985C-4398-AF6B-52E7F7F78BB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494D-65F1-414D-9411-4C23F2E5CB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ЛЕКОВИ И БОЛЕСТИ БУБРЕГ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исивање лекова болесницима који имају оштећену функцију бубрега, често изазива велике потешкоће из више разлог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могућност излучивања лека или његовог метаболита може изазвати токсичне ефек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етљивост организма на неке лекове може бити повећана чак и када није поремећена функција елиминације (излучивањ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есници са инсуфицијенцијом бубрега лошије подносе нежељена дејства леко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ки лекови губе своју ефикасност при оштећеној функцији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дукцијом дозе или употребом прикладнијег лека, могуће је избећи неке од наведених проблем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2CCC-DD75-4569-B975-A5609C7456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59FF-2BBC-4F93-995A-0FE0463318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и одређивања доза лекова код болесника са оштећеном функцијом бубрега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иво бубрежне функције испод које је потребно смањити дозу лека, пре свега зависи 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оксичности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о и од чињенице да ли се лек елиминише искључиво реналним путем или се делимично метаболиш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789-598B-4A8D-8167-E985DBD11D1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FA5-E135-4A76-8FC6-84B3B51A56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ко је могуће, код болесника са оштећењем бубрега требало би избегавати нефротоксичне лекове, будући да се могу очекивати теже последице нефротоксичности код стања код којих је већ смањена бубрежна резер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DDA-6273-4176-8571-FA7219E166D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3B81-2969-4D08-8AC2-21A2D86EB6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поруке о дозирању лекова код болести бубрега заснивају се на тежини бубрежне инсуфицијенције  која се изражава величином гломеруларне филтрације (ГФ), а обично се мери клиренсом креати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во серумског креатинина може се такође користити као мера функције бубрега, али представља само грубу оријентацију уколико се не учини корекција у односу на старост болесника, телесну тежину и пол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4B5-088A-43A9-BB1F-FDB6170ED6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0B8-C13F-4707-96BC-21EE13500A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Бубрежна инсуфицијенц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сање степена реналне инсуфицијенције, код појединих препарата се понекад разликује, па су наведене и вредности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ломеруларне филтрације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румског креатин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 поједине степене инсуфицијенције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267080" y="1752480"/>
          <a:ext cx="4648320" cy="4071960"/>
        </p:xfrm>
        <a:graphic>
          <a:graphicData uri="http://schemas.openxmlformats.org/drawingml/2006/table">
            <a:tbl>
              <a:tblPr/>
              <a:tblGrid>
                <a:gridCol w="1716120"/>
                <a:gridCol w="1430280"/>
                <a:gridCol w="150192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брежна инсуфицијенц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л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атинин у серу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-3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ре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-7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‹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6AB-0C3D-486D-A5A5-5A827AEC749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52D4-014B-4028-82A7-8C153FE154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лиренс креатинина се може проценити на основу серумске концентрације креатинина, уз помо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1844640"/>
            <a:ext cx="8796240" cy="40989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Кокрофт-Голтове формул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sr-CS" sz="1200" spc="-1" strike="noStrike">
                <a:solidFill>
                  <a:srgbClr val="000000"/>
                </a:solidFill>
                <a:latin typeface="Verdana"/>
              </a:rPr>
              <a:t>(140 – старост) х (телесна тежина у кг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лиренс креатинина</a:t>
            </a:r>
            <a:r>
              <a:rPr b="1" lang="sr-CS" sz="1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Verdana"/>
              </a:rPr>
              <a:t>(као фракција нормалног клиренса)                     </a:t>
            </a:r>
            <a:r>
              <a:rPr b="1" lang="sr-CS" sz="1200" spc="-1" strike="noStrike">
                <a:solidFill>
                  <a:srgbClr val="000000"/>
                </a:solidFill>
                <a:latin typeface="Verdana"/>
              </a:rPr>
              <a:t>(72 х серумска концентрација креатинин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од жена резултат формуле се множи са фактором 0.8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3733920" y="30481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FDBE-B98D-4C37-A329-F346F6DC0E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CB5D-89BD-4B03-923C-9D62DFEC0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Дозирање лекова код пацијената са оштећеном функцијом бубрега</a:t>
            </a: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снива се н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ежини бубрежне инсуфицијен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оја се </a:t>
            </a:r>
            <a:r>
              <a:rPr b="1" lang="sr-CS" sz="2600" spc="-1" strike="noStrike" u="sng">
                <a:solidFill>
                  <a:srgbClr val="ff0000"/>
                </a:solidFill>
                <a:uFillTx/>
                <a:latin typeface="Arial"/>
              </a:rPr>
              <a:t>изражава величином гломеруларне филтрације (ГФ), а обично се мери клиренсом креатин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серумског креатинина може се такође користити као мера функције бубрега, али представља само грубу оријентацију уколико се не учини корекција у односу на старост болесника, телесну тежину и по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0ED-5C67-45BF-B273-48382D06DE8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479-E65A-4719-BA36-1F8B6405A6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1802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инамика развоја функција значајних за кретање лекова кроз организам дет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варање киселине у желудцу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3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ажњење желудц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еристалтика црев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2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екреција жучних киселина и липаз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4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нижена секреција амилаз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4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Реакције оксидације и деметилације у јетри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Реакције редукције  и метилације у јетри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а рођењ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Гломеруларна филтра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5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Тубуларна секре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-9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оток крви кроз бубрег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12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148360" y="2133720"/>
            <a:ext cx="350496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арост у којој се достиже ниво функције одрасл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16000" y="2205000"/>
            <a:ext cx="32004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Функ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990720" y="37339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5800" y="640080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Verdana"/>
              </a:rPr>
              <a:t>С.Јанковић: Основе клиничке фармације, Кг,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7CD-6696-4826-B2B5-59FF24EDABB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56BC-A807-4144-907B-FCB5BC2B04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 старошћу, бубрежна функција опада: код старијих болесника ГФ је нижа од 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50 mL/min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а, обзиром на смањену мишићну масу не мора  увек да буде праћена повишеним нивоом серумског креатинина 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се претпоставити да код старије популације постоји најмање блажи степен реналне инсуфицијенциј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1C6-EE3A-45D1-9285-889D8037425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197-D770-4934-A1FA-9FA6D46C98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осебно је важно одредити 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праву дозу ле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код особа са бубрежном инсуфицијенцијом: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она не сме бити ни превелика ни премал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ада су у питању лекови који се већим делом метаболишу до неактивних метаболита, а затим се ти исти метаболити само делом излучују преко бубрега, смањење дозе није неопходно у бубрежној инсуфицијенцији. То посебно важи за лекове са великом терапијском ширино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 друге стране, лекови који имају </a:t>
            </a:r>
            <a:r>
              <a:rPr b="0" lang="sr-CS" sz="2100" spc="-1" strike="noStrike" u="sng">
                <a:solidFill>
                  <a:srgbClr val="ff0000"/>
                </a:solidFill>
                <a:uFillTx/>
                <a:latin typeface="Verdana"/>
              </a:rPr>
              <a:t>уску терапијску ширину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и који се већим делом излучују неизмењени урином, захтевају врло прецизно дозирање на основу клиренса креатинина болесника, а уз повремено мерење концентрације лека у серум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1A1B-520A-49BE-A434-225F8C3AB11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177-1330-4F46-92EC-B038790EC3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empty"/>
          <p:cNvPicPr/>
          <p:nvPr/>
        </p:nvPicPr>
        <p:blipFill>
          <a:blip r:embed="rId1"/>
          <a:stretch/>
        </p:blipFill>
        <p:spPr>
          <a:xfrm>
            <a:off x="457200" y="5919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empty"/>
          <p:cNvPicPr/>
          <p:nvPr/>
        </p:nvPicPr>
        <p:blipFill>
          <a:blip r:embed="rId2"/>
          <a:stretch/>
        </p:blipFill>
        <p:spPr>
          <a:xfrm>
            <a:off x="457200" y="1347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empty"/>
          <p:cNvPicPr/>
          <p:nvPr/>
        </p:nvPicPr>
        <p:blipFill>
          <a:blip r:embed="rId3"/>
          <a:stretch/>
        </p:blipFill>
        <p:spPr>
          <a:xfrm>
            <a:off x="457200" y="210996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empty"/>
          <p:cNvPicPr/>
          <p:nvPr/>
        </p:nvPicPr>
        <p:blipFill>
          <a:blip r:embed="rId4"/>
          <a:stretch/>
        </p:blipFill>
        <p:spPr>
          <a:xfrm>
            <a:off x="457200" y="287172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empty"/>
          <p:cNvPicPr/>
          <p:nvPr/>
        </p:nvPicPr>
        <p:blipFill>
          <a:blip r:embed="rId5"/>
          <a:stretch/>
        </p:blipFill>
        <p:spPr>
          <a:xfrm>
            <a:off x="457200" y="3633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mpty"/>
          <p:cNvPicPr/>
          <p:nvPr/>
        </p:nvPicPr>
        <p:blipFill>
          <a:blip r:embed="rId6"/>
          <a:stretch/>
        </p:blipFill>
        <p:spPr>
          <a:xfrm>
            <a:off x="457200" y="439596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empty"/>
          <p:cNvPicPr/>
          <p:nvPr/>
        </p:nvPicPr>
        <p:blipFill>
          <a:blip r:embed="rId7"/>
          <a:stretch/>
        </p:blipFill>
        <p:spPr>
          <a:xfrm>
            <a:off x="457200" y="5157720"/>
            <a:ext cx="7391520" cy="4572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3272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Уместо закључ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10" descr="creation_day_7_number_ge_01"/>
          <p:cNvPicPr/>
          <p:nvPr/>
        </p:nvPicPr>
        <p:blipFill>
          <a:blip r:embed="rId8"/>
          <a:stretch/>
        </p:blipFill>
        <p:spPr>
          <a:xfrm>
            <a:off x="228600" y="5867280"/>
            <a:ext cx="299880" cy="457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creation_day_1_number_ge_02"/>
          <p:cNvPicPr/>
          <p:nvPr/>
        </p:nvPicPr>
        <p:blipFill>
          <a:blip r:embed="rId9"/>
          <a:stretch/>
        </p:blipFill>
        <p:spPr>
          <a:xfrm>
            <a:off x="228600" y="1371600"/>
            <a:ext cx="20160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creation_day_2_number_ge_01"/>
          <p:cNvPicPr/>
          <p:nvPr/>
        </p:nvPicPr>
        <p:blipFill>
          <a:blip r:embed="rId10"/>
          <a:stretch/>
        </p:blipFill>
        <p:spPr>
          <a:xfrm>
            <a:off x="228600" y="2057400"/>
            <a:ext cx="228600" cy="460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creation_day_5_number_ge_01"/>
          <p:cNvPicPr/>
          <p:nvPr/>
        </p:nvPicPr>
        <p:blipFill>
          <a:blip r:embed="rId11"/>
          <a:stretch/>
        </p:blipFill>
        <p:spPr>
          <a:xfrm>
            <a:off x="228600" y="4419720"/>
            <a:ext cx="27792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creation_day_6_number_ge_01"/>
          <p:cNvPicPr/>
          <p:nvPr/>
        </p:nvPicPr>
        <p:blipFill>
          <a:blip r:embed="rId12"/>
          <a:stretch/>
        </p:blipFill>
        <p:spPr>
          <a:xfrm>
            <a:off x="228600" y="5105520"/>
            <a:ext cx="258840" cy="457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creation_day_3_number_ge_01"/>
          <p:cNvPicPr/>
          <p:nvPr/>
        </p:nvPicPr>
        <p:blipFill>
          <a:blip r:embed="rId13"/>
          <a:stretch/>
        </p:blipFill>
        <p:spPr>
          <a:xfrm>
            <a:off x="228600" y="2819520"/>
            <a:ext cx="281160" cy="457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creation_day_4_number_ge_01"/>
          <p:cNvPicPr/>
          <p:nvPr/>
        </p:nvPicPr>
        <p:blipFill>
          <a:blip r:embed="rId14"/>
          <a:stretch/>
        </p:blipFill>
        <p:spPr>
          <a:xfrm>
            <a:off x="228600" y="3505320"/>
            <a:ext cx="28116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7"/>
          <p:cNvSpPr/>
          <p:nvPr/>
        </p:nvSpPr>
        <p:spPr>
          <a:xfrm>
            <a:off x="990720" y="1347840"/>
            <a:ext cx="571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 је за све пацијенте примењивати принципе обезбеђења рационалне терапиј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990720" y="2124000"/>
            <a:ext cx="571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ом пацијенту обезбедити ПРАВИ лек према његовим медицинским потребама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990720" y="2900520"/>
            <a:ext cx="571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правој доз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1066680" y="3676680"/>
            <a:ext cx="563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вољно дуг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990720" y="4452840"/>
            <a:ext cx="571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рави начи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914400" y="5229360"/>
            <a:ext cx="624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ршити процену користи и ризика од примене лека</a:t>
            </a:r>
            <a:r>
              <a:rPr b="1" lang="sr-C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914400" y="6005520"/>
            <a:ext cx="5791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име се постиже и прави резулта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задовољан пацијент , фармацеут и лека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B303-8332-4BFE-9A3C-7F599C05EB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881B-C0C3-4B69-AE56-D5C9E0FDD9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625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Verdana"/>
              </a:rPr>
              <a:t>Let’s talk about medicine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883-D16F-4E73-8C26-B90FEE8814C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036-8478-4C58-8AA5-B43D0BD47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Критични периоди детињства у погледу примене лекова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 (дозирањ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8567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Новорођенче - н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еонатални период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првих 30 дана након рођењ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Дојенче : од 1 месеца до 2 године живо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ало дете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од 2 године до 12 годи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( деца до 6 година – посебни фармацеутски облиц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долесценти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од 12 до 18 годи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B916-B3C3-44FA-B706-524ADDFB271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7BF-997E-4E74-A3B6-4957CB2A83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sr-CS" sz="3700" spc="-1" strike="noStrike">
                <a:solidFill>
                  <a:srgbClr val="000000"/>
                </a:solidFill>
                <a:latin typeface="Verdana"/>
              </a:rPr>
              <a:t>доношче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мају физиолошки висок садржај екстр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елијске течности и до 85% (у поређењу са одраслим код којих је 65%)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мају ниску екскрециону способност бубрег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низак ниво албумин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исуство различитих ендогених супстанци које могу интерферирати са лековима, или имати компетитивни однос, имају нестабилну унутрашњу хомеостазу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мали садржај масног ткив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малу мишићну масу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 још других физиолошких специфичности које захтевају изузетну опрезност у примени лекова у овом узраст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beb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0"/>
            <a:ext cx="2395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37:21Z</dcterms:modified>
  <cp:revision>19</cp:revision>
  <dc:subject/>
  <dc:title>Slide 1</dc:title>
</cp:coreProperties>
</file>